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C636C-EEF0-4A96-A49E-AFEEB68FB0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55237-DC01-4A4E-878C-6A645C91A2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3A3A5-7A2B-4A59-9219-CD8840461B8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B30F7-A110-45F2-8589-8F0AD970D8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CA0FE-6BF5-431E-B3D2-18DBA76865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0C750-2719-4A79-9042-F738AD81CE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E39ED-A18A-404F-B1B9-163EB3AE9A9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49FB9-9C21-4C49-8D6D-D5DF9B0104D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F230C-5C68-4C94-9321-2A9140F2A8E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6684-9829-40C3-9061-652A4FDA58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49D3-115F-4BBD-9D76-145DFE7E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4236-65DD-4052-95D2-5809060C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062E-3BD5-416C-AF8C-A867A9DD1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7EB2-913F-49C2-A303-683735B2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DDF6-98E4-4D8A-A458-72E2A31A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849F-EB1F-47DC-9976-490082F5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D223-5B5D-461C-AA39-777E3228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6DA7-7EF8-4903-8465-54E27A60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11A5-CF87-42C7-AE71-64AE7980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7CF3-CF2A-41D6-A315-12137900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FB30-77F8-4666-9062-C2AC34DB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BB44FF-BE4C-4BC1-B938-F7106301CC94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unción de re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332000" y="26668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8200"/>
                </a:solidFill>
                <a:latin typeface="Arial"/>
              </a:rPr>
              <a:t>LOS TIPOS DE POLI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tipos de poli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17 Grupo"/>
          <p:cNvGrpSpPr/>
          <p:nvPr/>
        </p:nvGrpSpPr>
        <p:grpSpPr>
          <a:xfrm>
            <a:off x="3419640" y="1052640"/>
            <a:ext cx="2376360" cy="1008000"/>
            <a:chOff x="3419640" y="1052640"/>
            <a:chExt cx="2376360" cy="1008000"/>
          </a:xfrm>
        </p:grpSpPr>
        <p:sp>
          <p:nvSpPr>
            <p:cNvPr id="70" name="AutoShape 6"/>
            <p:cNvSpPr/>
            <p:nvPr/>
          </p:nvSpPr>
          <p:spPr>
            <a:xfrm>
              <a:off x="3419640" y="1052640"/>
              <a:ext cx="2376360" cy="1008000"/>
            </a:xfrm>
            <a:prstGeom prst="roundRect">
              <a:avLst>
                <a:gd name="adj" fmla="val 16667"/>
              </a:avLst>
            </a:prstGeom>
            <a:solidFill>
              <a:srgbClr val="ff8080"/>
            </a:solidFill>
            <a:ln w="381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13"/>
            <p:cNvSpPr/>
            <p:nvPr/>
          </p:nvSpPr>
          <p:spPr>
            <a:xfrm>
              <a:off x="3510000" y="1412640"/>
              <a:ext cx="221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LA POLINIZ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20 Grupo"/>
          <p:cNvGrpSpPr/>
          <p:nvPr/>
        </p:nvGrpSpPr>
        <p:grpSpPr>
          <a:xfrm>
            <a:off x="900000" y="3738600"/>
            <a:ext cx="2087640" cy="1079640"/>
            <a:chOff x="900000" y="3738600"/>
            <a:chExt cx="2087640" cy="1079640"/>
          </a:xfrm>
        </p:grpSpPr>
        <p:sp>
          <p:nvSpPr>
            <p:cNvPr id="73" name="AutoShape 8"/>
            <p:cNvSpPr/>
            <p:nvPr/>
          </p:nvSpPr>
          <p:spPr>
            <a:xfrm>
              <a:off x="900000" y="3738600"/>
              <a:ext cx="2087640" cy="1079640"/>
            </a:xfrm>
            <a:prstGeom prst="roundRect">
              <a:avLst>
                <a:gd name="adj" fmla="val 16667"/>
              </a:avLst>
            </a:prstGeom>
            <a:solidFill>
              <a:srgbClr val="ff8080"/>
            </a:solidFill>
            <a:ln w="381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14"/>
            <p:cNvSpPr/>
            <p:nvPr/>
          </p:nvSpPr>
          <p:spPr>
            <a:xfrm>
              <a:off x="1043280" y="4099680"/>
              <a:ext cx="18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ANEMÓGA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19 Grupo"/>
          <p:cNvGrpSpPr/>
          <p:nvPr/>
        </p:nvGrpSpPr>
        <p:grpSpPr>
          <a:xfrm>
            <a:off x="6227640" y="3738600"/>
            <a:ext cx="2089440" cy="1079640"/>
            <a:chOff x="6227640" y="3738600"/>
            <a:chExt cx="2089440" cy="1079640"/>
          </a:xfrm>
        </p:grpSpPr>
        <p:sp>
          <p:nvSpPr>
            <p:cNvPr id="76" name="AutoShape 7"/>
            <p:cNvSpPr/>
            <p:nvPr/>
          </p:nvSpPr>
          <p:spPr>
            <a:xfrm>
              <a:off x="6227640" y="3738600"/>
              <a:ext cx="2089440" cy="1079640"/>
            </a:xfrm>
            <a:prstGeom prst="roundRect">
              <a:avLst>
                <a:gd name="adj" fmla="val 16667"/>
              </a:avLst>
            </a:prstGeom>
            <a:solidFill>
              <a:srgbClr val="ff8080"/>
            </a:solidFill>
            <a:ln w="381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6372000" y="409968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NTOMÓGA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Text Box 16"/>
          <p:cNvSpPr/>
          <p:nvPr/>
        </p:nvSpPr>
        <p:spPr>
          <a:xfrm>
            <a:off x="395280" y="551664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ulsa sobre cada recuadro para saber m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Agrupar 5"/>
          <p:cNvGrpSpPr/>
          <p:nvPr/>
        </p:nvGrpSpPr>
        <p:grpSpPr>
          <a:xfrm>
            <a:off x="1979640" y="2060640"/>
            <a:ext cx="5257800" cy="1684440"/>
            <a:chOff x="1979640" y="2060640"/>
            <a:chExt cx="5257800" cy="1684440"/>
          </a:xfrm>
        </p:grpSpPr>
        <p:sp>
          <p:nvSpPr>
            <p:cNvPr id="80" name="Freeform 9"/>
            <p:cNvSpPr/>
            <p:nvPr/>
          </p:nvSpPr>
          <p:spPr>
            <a:xfrm>
              <a:off x="1979640" y="3292200"/>
              <a:ext cx="5256360" cy="2160"/>
            </a:xfrm>
            <a:custGeom>
              <a:avLst/>
              <a:gdLst>
                <a:gd name="textAreaLeft" fmla="*/ 0 w 5256360"/>
                <a:gd name="textAreaRight" fmla="*/ 5256720 w 5256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602" h="5">
                  <a:moveTo>
                    <a:pt x="0" y="0"/>
                  </a:moveTo>
                  <a:lnTo>
                    <a:pt x="14601" y="4"/>
                  </a:lnTo>
                </a:path>
              </a:pathLst>
            </a:custGeom>
            <a:noFill/>
            <a:ln w="255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1979640" y="3285000"/>
              <a:ext cx="1440" cy="460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5" h="831">
                  <a:moveTo>
                    <a:pt x="0" y="830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7236000" y="3285000"/>
              <a:ext cx="1440" cy="460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5" h="831">
                  <a:moveTo>
                    <a:pt x="0" y="830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36 CuadroTexto"/>
            <p:cNvSpPr/>
            <p:nvPr/>
          </p:nvSpPr>
          <p:spPr>
            <a:xfrm>
              <a:off x="2844000" y="2492640"/>
              <a:ext cx="338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puede s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1"/>
            <p:cNvSpPr/>
            <p:nvPr/>
          </p:nvSpPr>
          <p:spPr>
            <a:xfrm>
              <a:off x="4572360" y="2060640"/>
              <a:ext cx="1440" cy="460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5" h="831">
                  <a:moveTo>
                    <a:pt x="0" y="830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4570920" y="2824560"/>
              <a:ext cx="1440" cy="460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5" h="831">
                  <a:moveTo>
                    <a:pt x="0" y="830"/>
                  </a:moveTo>
                  <a:lnTo>
                    <a:pt x="4" y="0"/>
                  </a:lnTo>
                </a:path>
              </a:pathLst>
            </a:custGeom>
            <a:noFill/>
            <a:ln w="25560">
              <a:solidFill>
                <a:srgbClr val="7e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tipos de poli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1800360" y="2700360"/>
            <a:ext cx="5580000" cy="3311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934920" y="1274760"/>
            <a:ext cx="7272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granos de polen son transportados por el vi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bido a ello, las flores no son vistosas (no necesitan atraer a ningún animal), y producen mucho polen (pues el viento no asegura que vaya a caer en otra flor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olinización anemóg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380360" y="540072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lores poco vistos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NIDAD</a:t>
            </a:r>
            <a:br>
              <a:rPr sz="1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320" y="64008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ff790b"/>
                </a:solidFill>
                <a:latin typeface="Arial"/>
              </a:rPr>
              <a:t>Ciencias de la Naturaleza 2.º 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4447" b="0"/>
          <a:stretch/>
        </p:blipFill>
        <p:spPr>
          <a:xfrm>
            <a:off x="7507440" y="6278400"/>
            <a:ext cx="1636560" cy="579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984240" y="90360"/>
            <a:ext cx="68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os tipos de poli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34920" y="1274760"/>
            <a:ext cx="727236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granos de polen son transportados por ins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llo, las plantas producen flores vistosas y sustancias azucaradas, como el néctar, para atraerl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00000" y="765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8700"/>
                </a:solidFill>
                <a:latin typeface="Arial"/>
              </a:rPr>
              <a:t>Polinización entomóg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900000" y="2340000"/>
            <a:ext cx="7199280" cy="3779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900000" y="4292640"/>
            <a:ext cx="16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lores vistosas que producen néct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4211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648320" y="61977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Volver al menú ini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47:55Z</dcterms:created>
  <dc:creator>Beatriz</dc:creator>
  <dc:description/>
  <dc:language>en-US</dc:language>
  <cp:lastModifiedBy>jose luis</cp:lastModifiedBy>
  <dcterms:modified xsi:type="dcterms:W3CDTF">2012-11-26T17:12:50Z</dcterms:modified>
  <cp:revision>48</cp:revision>
  <dc:subject/>
  <dc:title>Diapositiva 1</dc:title>
</cp:coreProperties>
</file>